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075D-B678-4C09-B6BA-F5228A5906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B6D22-D0D0-45A8-803E-EF75C4DD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BFEEF-94CE-4C6D-9F14-A909CAA5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06B83-5F1D-4FA0-99A6-96DC3BEB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94E-143B-4874-B323-B08459F8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5EE-E8BD-4D17-ACD8-DF7CFDB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1B6-C301-4E19-8191-7076AB4D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3F5-2D7B-476F-996B-120BD261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B17-9546-49EA-9D7B-DE999ACB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3D6-31F2-49CC-8ABF-4B3432CA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C88-67E7-4EE0-9DC5-4916D231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D59-D4AD-4824-9D76-18E249E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721-28B0-4723-B286-7A795F5C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46A-F004-4830-BC78-EC360CE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6DC-92AA-4633-A0AC-1897C57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134-72CB-4494-A85B-91584645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A13C1-B1F3-482F-A89B-7AB0C52B16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7028E-967B-4102-8802-C4436A60D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990720" y="1828800"/>
            <a:ext cx="77724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try 4: Writing 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rge Gro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bruary 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– 11:30 a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ational Board Cer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762120" y="17524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iate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id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werf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ts?t=1887475138388030278&amp;pid=26&amp;ppid=0"/>
          <p:cNvPicPr/>
          <p:nvPr/>
        </p:nvPicPr>
        <p:blipFill>
          <a:blip r:embed="rId2"/>
          <a:stretch/>
        </p:blipFill>
        <p:spPr>
          <a:xfrm>
            <a:off x="3429000" y="2666880"/>
            <a:ext cx="2438280" cy="15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762120" y="1752480"/>
            <a:ext cx="77724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your tables, discu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do I make choices about what documentation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new things might you consider about documentation after today’s discu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ble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990720" y="1523880"/>
            <a:ext cx="7772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type of writing will this entry requi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ing on the documenta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main components of this en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ing th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questions I’ll be asked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itfalls of Entr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1371600" y="22320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patterns might you expect to see across your accomplish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143000" y="167652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 to your original corner of the room. Find your original partner if possible and discu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tting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23880" y="32464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might be some of your next steps in meeting your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3880" y="4267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at might be some effective strategies for approaching Entry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523880" y="5238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ere might you st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990720" y="182880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nk you for engaging one another today, please thank your corner partner and return to your tables to complete the eval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feedback is helpful for planning efforts to support candidates in Arizo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457200" y="144792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ry 4 is not a res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rather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demonstrate your influence on students in both depth and bread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ize this opportunity to demonstrate how you go above and beyond what is necessary to truly impact students in ways that are significant enough to warrant your participation i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’s the Purpose of Entry 4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914400" y="3429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685800" y="1295280"/>
            <a:ext cx="77724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 to a corner of the room that best describes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ve started Entry 4 and I’m sure of my chosen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I’ve collected documentation but I haven’t written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) I’ve been thinking about Entry 4 and planning, but I haven’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) What’s Entry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uckoo"/>
                <a:ea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990720" y="20574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In your corners, talk about this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371600" y="330840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might be some of your goals and outcomes for today’s se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90720" y="167652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nk ab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 accomplis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you are either considering or have already written about that you might want to look deeper a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ill be using it as the focus for our discu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ssion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9480" y="1371600"/>
            <a:ext cx="7772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expl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Entry 4 Triangle for a better understanding of the difference between significance and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oices for accomplishments and documentation against National Board Resources (scoring guide and portfolio instruc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pitfalls of writing for Entry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begin 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make conn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find patterns across accomplish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leave with strateg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getting started and maintain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utc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685800" y="1828800"/>
            <a:ext cx="77724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difference between significance and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you give me an exam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zz words do not signal differences in my writing, it is HOW I use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ificance vs.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j0215357"/>
          <p:cNvPicPr/>
          <p:nvPr/>
        </p:nvPicPr>
        <p:blipFill>
          <a:blip r:embed="rId2"/>
          <a:stretch/>
        </p:blipFill>
        <p:spPr>
          <a:xfrm>
            <a:off x="5029200" y="3048120"/>
            <a:ext cx="29638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685800" y="1828800"/>
            <a:ext cx="77724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airs, designate an “A” and “B”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–“Talk” about the significance of one accomplis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– Record statements of evidence that indicate significance, using the triangle to guide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alk About I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685800" y="1752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k about an accomplishment that might have indirect student impact or potential student impac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instorm some impact statements you might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otential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914400" y="4191120"/>
            <a:ext cx="1219320" cy="13716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9"/>
          <p:cNvSpPr/>
          <p:nvPr/>
        </p:nvSpPr>
        <p:spPr>
          <a:xfrm>
            <a:off x="4070520" y="4851360"/>
            <a:ext cx="961920" cy="59868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0"/>
          <p:cNvSpPr/>
          <p:nvPr/>
        </p:nvSpPr>
        <p:spPr>
          <a:xfrm>
            <a:off x="2133720" y="5151600"/>
            <a:ext cx="563400" cy="38556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3"/>
          <p:cNvSpPr/>
          <p:nvPr/>
        </p:nvSpPr>
        <p:spPr>
          <a:xfrm>
            <a:off x="2003400" y="4521240"/>
            <a:ext cx="693720" cy="144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"/>
          <p:cNvSpPr/>
          <p:nvPr/>
        </p:nvSpPr>
        <p:spPr>
          <a:xfrm flipV="1">
            <a:off x="4191120" y="4191120"/>
            <a:ext cx="841320" cy="3492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685800" y="45226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ri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-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2697120" y="4246560"/>
            <a:ext cx="14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 of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2697120" y="5327640"/>
            <a:ext cx="14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’ Practice in Class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5098680" y="3543480"/>
            <a:ext cx="381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otential influence might 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ment have ha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udents at other school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sponse to the infor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, or experiences I sha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7"/>
          <p:cNvSpPr/>
          <p:nvPr/>
        </p:nvSpPr>
        <p:spPr>
          <a:xfrm>
            <a:off x="4648320" y="5327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8"/>
          <p:cNvSpPr/>
          <p:nvPr/>
        </p:nvSpPr>
        <p:spPr>
          <a:xfrm>
            <a:off x="5075280" y="515160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ata sources could I investigate to find out the impact it h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aluating Ch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914400" y="2320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some ways you will decide you’ve made the right choice in this accomplish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14400" y="3851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some strategies for conducting a self-analysis of all your 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4:53:39Z</dcterms:created>
  <dc:creator>Taryl Hargens</dc:creator>
  <dc:description/>
  <dc:language>en-US</dc:language>
  <cp:lastModifiedBy>Taryl Hargens</cp:lastModifiedBy>
  <dcterms:modified xsi:type="dcterms:W3CDTF">2009-02-08T19:10:21Z</dcterms:modified>
  <cp:revision>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6450628</vt:r8>
  </property>
  <property fmtid="{D5CDD505-2E9C-101B-9397-08002B2CF9AE}" pid="3" name="_AuthorEmail">
    <vt:lpwstr>sbaird@kyrene.org</vt:lpwstr>
  </property>
  <property fmtid="{D5CDD505-2E9C-101B-9397-08002B2CF9AE}" pid="4" name="_AuthorEmailDisplayName">
    <vt:lpwstr>Baird, Sarah</vt:lpwstr>
  </property>
  <property fmtid="{D5CDD505-2E9C-101B-9397-08002B2CF9AE}" pid="5" name="_EmailSubject">
    <vt:lpwstr>Power Point for Entry 4</vt:lpwstr>
  </property>
</Properties>
</file>